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C96-AA03-4A94-83BD-92319657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607-4BD8-491C-921D-52633715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5F7-2873-4109-B489-CF1E6286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A16-CA03-4ADD-868F-B21C42C8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4403-5F4C-47B8-9B40-E937DB8A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AED1-6FDA-47E2-9BAE-DC157173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F67E-2F79-4275-BA6C-7A6BB42A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04AC-DA3F-4C05-86B9-E3CD24FC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2FD6-CBD4-44BF-837F-AE20FEA7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79B4-A7B5-4F79-A7F0-073F8063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7707-1D63-4008-8F52-35AA9725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B32-6142-41A2-B751-4FEF838C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2FA3-783F-4558-A4A0-A5A21096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0B75-729A-450A-A7B6-A4B1D749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D9FF-A539-4325-B5EF-6E92BE15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B329-B16E-49A6-A62E-BFDBC29B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1F0D-B306-454F-952B-150AAC1C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D427A-B32E-4D8D-93C5-42E7078D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5319B-B2FF-472F-A159-FD5D8A16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BDA68-72A6-4400-A27C-C12BB2E4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A2488-D652-4656-952E-BBDCB3EC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7762F-F34C-4521-ACC8-63A9A3B1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843-1789-4E35-9AF7-9E0B5760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DEF4F-299A-4684-9656-C9950A16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8799F-0DF3-47A3-89DD-F6C4F4C2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8CD5F-4728-42C3-B688-F090C1B1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CB810-AD01-4EFA-A688-750596E7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AAB04-5EE2-4E28-960B-E4FB7116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F1FA3-64F5-4F8B-B529-4EF60174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C6368-D5A4-4540-8EA1-7BB2B480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81C90-F3F1-4CFA-9D7C-88FFB986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6143A-6446-4C4B-A2FF-53314284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79586-CA3E-4014-9EA2-357926FF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F77-99E2-445D-960D-E937D083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5B143-F2B2-46FD-B6D1-9BBB29D0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D381A-80B7-4AF1-994D-1DD7C90F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D6DD4-4BDE-4934-A3F1-A4D7E27D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08A63-7BBA-407B-B7D4-187206A0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E1FF1-9F47-44AA-8C19-FFB3E1A8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78AC5-1711-4846-8569-771C2F63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74A36-CBEA-4A01-9B14-5EE2C08C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FEBB7-F854-4560-96AF-E962FED8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4FC02-E23A-43BB-B581-785525BF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FDE-46AA-45A2-8E9C-317C2E5E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D05-7F1D-444C-B0BC-1C32076D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765-5804-47DB-93C4-04303BA6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1E6-47DF-4985-B534-CD4CBBC8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D960-9FB6-458A-980C-871642A2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EEB8-AE14-4EAB-B38C-3DE0A42B82F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1BF2-E5BB-461D-8768-9C02F7A1263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B3DC-5030-43CD-AB5C-4ABD42EE00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0314-D636-402D-BFFD-C141ED20F5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sbw.ru/part.php?id=32" TargetMode="External"/><Relationship Id="rId2" Type="http://schemas.openxmlformats.org/officeDocument/2006/relationships/hyperlink" Target="http://www.dsbw.ru/part.ph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447920" y="3808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Замки Луар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1828800"/>
            <a:ext cx="194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Verdana"/>
              </a:rPr>
              <a:t>Проект Попова Никиты, ученик 10 класса, СОШ № 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2860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к Шамб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4724280" cy="36496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486400" y="1219320"/>
            <a:ext cx="3317760" cy="42973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219320" y="62485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Картинная галер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7150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кои Франциска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09680" y="6094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Заклю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00664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рия французских королей привлекала к себе внимание не только историков. Она вдохновляла писателей и поэтов, приковывала к себе внимание сотен тысяч людей, которые начали познавать ее еще в детстве, с Дюма и Дрюона и навсегда остались очарованными этой цепью необыкновенных историй, кажущихся легендами. Легенды эти сохранились не только в умах и сердцах людей. Их хранит один из самых долговечных строительных материалов на свете – камень замков на берегах Луа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048120" y="609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Ресур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84320" y="1442880"/>
            <a:ext cx="7019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www.dsbw.ru/part.php?id=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guide.travel.ru/luara/index1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dsbw.ru/part.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u.wikipedia.org/wiki/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Замки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Луары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?id=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295280"/>
            <a:ext cx="82296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доль Луары, одной из самых красивых французских рек, выстроились как в почетном карауле необыкновенной красоты каменные замки, и каждый - сама история. Одни названия их могут поразить всякого, кто понимает толк в красоте речи, - замок Шенонсо, замок Амбуаз, замок Фужер-сюр-Бьевр... О каждом замке можно было бы написать отдельное исследование, причем пришлось бы привлекать историков, литераторов, архитекторов, археологов, искусствоведов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авайте посетим некоторые из них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4572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Вдоль Луары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2627280"/>
            <a:ext cx="5791320" cy="42307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2860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к Анж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нжер, лежащий на берегах реки Майен, с древнейших времен был занят племенами гордых кельтов, упорно сопротивлявшихся вторжению римлян. В IX веке, по прошествии долгих лет набегов норманнов, Фульк Нерра, граф Анжуйский, воздвиг здесь укрепленный зам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2666880"/>
            <a:ext cx="30481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В 1228-1238 гг. Святой Людовик добавил к замку целый комплекс фортификаций. Впоследствии этот ансамбль был еще более расширен при Людовике I, герцоге Анжуйском, и при Людовике I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9880" y="2514600"/>
            <a:ext cx="5181840" cy="3446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4114800" cy="26859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2860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к Анж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4038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Зал с гобеленами Апокалипси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594216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Иоанн, Ангел и Новый Иерусалим, представленный в виде укреплённого зам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209680" y="2286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к Блу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105084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180040" y="1143000"/>
            <a:ext cx="3963960" cy="5715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52280" y="1143000"/>
            <a:ext cx="4953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юди обратили внимание на это заповедное место очень давно, много тысячелетий тому назад. Высокий скалистый утес, омываемый водами Луары и впадающей в нее небольшой реки, обеспечивал надежное укрытие и защиту; без сомнения это место было обитаемым еще в эпоху неолита. Однако упоминание замка встречается только в текстах IX 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 середины Х века Блуа и его окрестности становятся владением могущественных феодалов - графов де Блуа, вассалов короля Франции, они же - графы Тура и Шартра, затем Шампани, которые много раз переделывали укрепленный зам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к Блу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2860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к Ло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2860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к Ло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2481120" cy="53946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733920" y="3886200"/>
            <a:ext cx="4419360" cy="27608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733920" y="1143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В подземных помещениях этого замка, которые открыты для посещений можно увидеть зал пыток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Он был оборудован в середине XV века Карлом VII. Здесь еще хранятся некоторые орудия, с помощью которых крепились лодыжки пленников при четвертовании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к Шамб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5181480" cy="55627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715000" y="1295280"/>
            <a:ext cx="3124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т он - один из самых прекрасных ренессансных замков Долины Луары. Местность, на которой он возвышается, принадлежала в Х веке графам Блуа, Шампани и Шатийона. В 1392 году она была приобретена Людовиком Орлеанск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09</cp:lastModifiedBy>
  <dcterms:modified xsi:type="dcterms:W3CDTF">2009-12-08T11:12:5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